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media/image6.png" ContentType="image/png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8928D-E988-4769-ACCB-E8A87546C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3EB65-3A57-4C75-BBE3-FDB93A35F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80FA1-F99B-4FA2-8106-47BFD9BB2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03040-6373-47D1-AF05-84D4F8D68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CEA34-0B51-4FDA-8142-79F5BF464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3C3A1-595D-431E-80CC-6CC497D55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338F3-B6FB-4A3F-81F1-84994D8F1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F0688-7871-456D-8708-985F39647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20E36-F8A7-481D-A674-E4BA8926B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65570-837A-4DD0-A965-BC3B9D848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EC9F0-B977-478A-AB4A-425433900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7FE67-36D8-4019-AB6A-21F4CC26E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BBD37-CF4F-4629-87CD-97F44C706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02585-10C7-497D-B6EB-1FD5CD24A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23C90-FD84-4A7B-B657-08BDDC469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0D5EA-4AA8-4101-ABC2-4E1BE343E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FD198-F1AA-44E9-B7AF-3B2DF9D17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F5C3F-3BEE-4948-894C-436583351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61D8B-64D2-4934-A59A-632ADE148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98A98-90A0-4CA8-8060-AF9377CA2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1856A-4C69-4534-ACF9-66FE1E3B9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FD750-B9FE-40A4-9BFB-052162F16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80A61-E59D-43A0-AAF8-BDE7593E5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9D731-5A1F-4183-8380-11B2F6E60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09E6F-394B-4E8D-9588-A09B18E6D15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CD87C-7E96-45CE-8B35-608858C528C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agame.com/" TargetMode="External"/><Relationship Id="rId2" Type="http://schemas.openxmlformats.org/officeDocument/2006/relationships/hyperlink" Target="http://www.javascript.internet.com/" TargetMode="Externa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39640" y="620640"/>
            <a:ext cx="79185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Comic Sans MS"/>
              </a:rPr>
              <a:t>Preparation of the body</a:t>
            </a:r>
            <a:br>
              <a:rPr sz="4400"/>
            </a:br>
            <a:br>
              <a:rPr sz="4400"/>
            </a:br>
            <a:r>
              <a:rPr b="1" lang="en-GB" sz="3600" spc="-1" strike="noStrike">
                <a:solidFill>
                  <a:srgbClr val="ffffff"/>
                </a:solidFill>
                <a:latin typeface="Comic Sans MS"/>
              </a:rPr>
              <a:t>Skill related and mental fitnes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Comic Sans MS"/>
              </a:rPr>
              <a:t>Lesson 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Comic Sans MS"/>
              </a:rPr>
              <a:t>Wednesday 26</a:t>
            </a:r>
            <a:r>
              <a:rPr b="1" lang="en-GB" sz="3600" spc="-1" strike="noStrike" baseline="30000">
                <a:solidFill>
                  <a:srgbClr val="ffffff"/>
                </a:solidFill>
                <a:latin typeface="Comic Sans MS"/>
              </a:rPr>
              <a:t>th</a:t>
            </a:r>
            <a:r>
              <a:rPr b="1" lang="en-GB" sz="3600" spc="-1" strike="noStrike">
                <a:solidFill>
                  <a:srgbClr val="ffffff"/>
                </a:solidFill>
                <a:latin typeface="Comic Sans MS"/>
              </a:rPr>
              <a:t> Augu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Period starter….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Read pages 6 &amp; 7, then complete workbox 2 in your course bookle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Read the top paragraph on page 8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3"/>
          <a:stretch/>
        </p:blipFill>
        <p:spPr>
          <a:xfrm>
            <a:off x="6659640" y="4437000"/>
            <a:ext cx="2044800" cy="16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Preparation of the Bod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Discussio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Discuss what this paragraph is telling you if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You have good C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You have poor C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6084720" y="4365720"/>
            <a:ext cx="264636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Skill related fitnes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Agility –  The ability to change position and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     direction quickly and precis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iming –  The ability to accurately perform ski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Why are each of  these skill related aspects of fitness important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Skill related fitnes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ffffff"/>
                </a:solidFill>
                <a:uFillTx/>
                <a:latin typeface="Arial"/>
              </a:rPr>
              <a:t>Discuss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What practice have you tried in hockey that required you to have good agility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Describe the practice (use a diagram if necessary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Answer the same question for good timin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Mental Fitnes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Determination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–  </a:t>
            </a: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an individuals desire to   </a:t>
            </a: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      succe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Motivation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What drives a player to improve and </a:t>
            </a: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succe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oncentration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–  </a:t>
            </a: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A player must be fully focused on what </a:t>
            </a: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      they are trying to achieve. Players must </a:t>
            </a: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      concentrate for the duration of a game </a:t>
            </a: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      to avoid making mistak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ead &amp; complete page 10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596360" y="4869000"/>
            <a:ext cx="1276200" cy="13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Mental Fitnes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hat is this information telling u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an we improve mental fitnes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Log on t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86d1ec"/>
                </a:solidFill>
                <a:uFillTx/>
                <a:latin typeface="Arial"/>
                <a:hlinkClick r:id="rId1"/>
              </a:rPr>
              <a:t>http://www.agame.com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(multitask gam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86d1ec"/>
                </a:solidFill>
                <a:uFillTx/>
                <a:latin typeface="Arial"/>
                <a:hlinkClick r:id="rId2"/>
              </a:rPr>
              <a:t>http://www.javascript.internet.com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(concentration gam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ry each of the concentration games on these websites and record your scor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5T12:19:25Z</dcterms:created>
  <dc:creator>FlemingC1</dc:creator>
  <dc:description/>
  <dc:language>en-US</dc:language>
  <cp:lastModifiedBy>FlemingC1</cp:lastModifiedBy>
  <dcterms:modified xsi:type="dcterms:W3CDTF">2009-08-25T15:26:29Z</dcterms:modified>
  <cp:revision>4</cp:revision>
  <dc:subject/>
  <dc:title>Preparation of the body  Skill related and mental fitness</dc:title>
</cp:coreProperties>
</file>